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0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move the slide</a:t>
            </a:r>
            <a:endParaRPr b="0" lang="en-US" sz="2600" spc="-1" strike="noStrike">
              <a:solidFill>
                <a:srgbClr val="000096"/>
              </a:solidFill>
              <a:latin typeface="Verdana"/>
            </a:endParaRPr>
          </a:p>
        </p:txBody>
      </p:sp>
      <p:sp>
        <p:nvSpPr>
          <p:cNvPr id="210"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B121-8795-44E3-9856-39F90D7A46E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7D76-6625-4B47-8B9A-AB2C43411C1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64C8E-5EDC-4F14-9817-866176DC78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EBEEFDEB-6B2B-4876-A4A7-660C137CFD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D9E15B6F-AD9D-409B-98ED-36FAC8C16D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BD9ADD38-6B56-4758-B02E-200FEC586F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1"/>
          </p:nvPr>
        </p:nvSpPr>
        <p:spPr/>
        <p:txBody>
          <a:bodyPr/>
          <a:p>
            <a:fld id="{1FA44CE1-D028-4DC2-93E6-750FF3F4F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1"/>
          </p:nvPr>
        </p:nvSpPr>
        <p:spPr/>
        <p:txBody>
          <a:bodyPr/>
          <a:p>
            <a:fld id="{17B11395-6A39-447B-BC41-B45B1C64C4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7E9B1031-2AAD-46D5-9D6F-4962F8BD40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841CDA7A-8F05-44DE-ACCD-F57272F0F6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959F6D76-26C7-4693-9756-CD84FA8EEA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81AC1220-F6AD-4142-9857-18E4E598BD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1"/>
          </p:nvPr>
        </p:nvSpPr>
        <p:spPr/>
        <p:txBody>
          <a:bodyPr/>
          <a:p>
            <a:fld id="{40F04694-1BD7-451D-AFB2-643BA43345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8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1"/>
          </p:nvPr>
        </p:nvSpPr>
        <p:spPr/>
        <p:txBody>
          <a:bodyPr/>
          <a:p>
            <a:fld id="{EC9A7973-F023-49BA-A677-59752CDD95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222F94-0BAB-4F48-A7D5-312F86E967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4E1BFB9E-810C-4E8C-BF2E-A10C87DC0A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C6E981AB-1675-4F9E-9685-AA069C2EF9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7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716E56BF-8A0A-4FAE-B55B-40995DD739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2"/>
          </p:nvPr>
        </p:nvSpPr>
        <p:spPr/>
        <p:txBody>
          <a:bodyPr/>
          <a:p>
            <a:fld id="{503C7644-AC40-4CEE-9C2D-F5FE76F633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2"/>
          </p:nvPr>
        </p:nvSpPr>
        <p:spPr/>
        <p:txBody>
          <a:bodyPr/>
          <a:p>
            <a:fld id="{A4E5926F-8D7C-4844-8D59-BDD97DB2F8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D28936CF-7AC1-4DB1-AB11-87AFDF503AC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91AB6882-352B-4DBF-8BDA-744157B1C16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82FF07D8-9947-47E0-8C49-6BCE331B00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3D0BFBFB-846B-4E44-8E35-EA7D8418FD3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2"/>
          </p:nvPr>
        </p:nvSpPr>
        <p:spPr/>
        <p:txBody>
          <a:bodyPr/>
          <a:p>
            <a:fld id="{865E9900-DB97-46B5-8954-FAAC9E674F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0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2"/>
          </p:nvPr>
        </p:nvSpPr>
        <p:spPr/>
        <p:txBody>
          <a:bodyPr/>
          <a:p>
            <a:fld id="{20FCDD9C-63D1-48EE-BEA6-D844C10FE4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
        <p:nvSpPr>
          <p:cNvPr id="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 name="Picture 7" descr=""/>
          <p:cNvPicPr/>
          <p:nvPr/>
        </p:nvPicPr>
        <p:blipFill>
          <a:blip r:embed="rId2"/>
          <a:stretch/>
        </p:blipFill>
        <p:spPr>
          <a:xfrm>
            <a:off x="3754440" y="306360"/>
            <a:ext cx="1620720" cy="124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3" name="Straight Connector 8" descr=""/>
          <p:cNvPicPr/>
          <p:nvPr/>
        </p:nvPicPr>
        <p:blipFill>
          <a:blip r:embed="rId2"/>
          <a:stretch/>
        </p:blipFill>
        <p:spPr>
          <a:xfrm>
            <a:off x="-128520" y="3328920"/>
            <a:ext cx="9394920" cy="109440"/>
          </a:xfrm>
          <a:prstGeom prst="rect">
            <a:avLst/>
          </a:prstGeom>
          <a:ln w="0">
            <a:noFill/>
          </a:ln>
        </p:spPr>
      </p:pic>
      <p:sp>
        <p:nvSpPr>
          <p:cNvPr id="44" name="PlaceHolder 1"/>
          <p:cNvSpPr>
            <a:spLocks noGrp="1"/>
          </p:cNvSpPr>
          <p:nvPr>
            <p:ph type="sldNum" idx="1"/>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2836-4977-4A00-A79E-239C629C20E6}"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5"/>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2" name="Picture 6" descr="LOGO CE-EN-quadri.eps"/>
          <p:cNvPicPr/>
          <p:nvPr/>
        </p:nvPicPr>
        <p:blipFill>
          <a:blip r:embed="rId2"/>
          <a:stretch/>
        </p:blipFill>
        <p:spPr>
          <a:xfrm>
            <a:off x="3957480" y="258840"/>
            <a:ext cx="1436760" cy="998640"/>
          </a:xfrm>
          <a:prstGeom prst="rect">
            <a:avLst/>
          </a:prstGeom>
          <a:ln w="0">
            <a:noFill/>
          </a:ln>
        </p:spPr>
      </p:pic>
      <p:pic>
        <p:nvPicPr>
          <p:cNvPr id="83" name="Picture 2" descr="G:\A\4\Personnes\herrypa\06 - OTHER\NEAR\Footer Box NEAR.jpg"/>
          <p:cNvPicPr/>
          <p:nvPr/>
        </p:nvPicPr>
        <p:blipFill>
          <a:blip r:embed="rId3"/>
          <a:stretch/>
        </p:blipFill>
        <p:spPr>
          <a:xfrm>
            <a:off x="4211640" y="6297480"/>
            <a:ext cx="841320" cy="560520"/>
          </a:xfrm>
          <a:prstGeom prst="rect">
            <a:avLst/>
          </a:prstGeom>
          <a:ln w="0">
            <a:noFill/>
          </a:ln>
        </p:spPr>
      </p:pic>
      <p:sp>
        <p:nvSpPr>
          <p:cNvPr id="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3" name="Picture 7" descr=""/>
          <p:cNvPicPr/>
          <p:nvPr/>
        </p:nvPicPr>
        <p:blipFill>
          <a:blip r:embed="rId2"/>
          <a:stretch/>
        </p:blipFill>
        <p:spPr>
          <a:xfrm>
            <a:off x="3754440" y="306360"/>
            <a:ext cx="1620720" cy="1249560"/>
          </a:xfrm>
          <a:prstGeom prst="rect">
            <a:avLst/>
          </a:prstGeom>
          <a:ln w="0">
            <a:noFill/>
          </a:ln>
        </p:spPr>
      </p:pic>
      <p:sp>
        <p:nvSpPr>
          <p:cNvPr id="124" name="Rectangle 5"/>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5" name="Picture 9" descr=""/>
          <p:cNvPicPr/>
          <p:nvPr/>
        </p:nvPicPr>
        <p:blipFill>
          <a:blip r:embed="rId3"/>
          <a:stretch/>
        </p:blipFill>
        <p:spPr>
          <a:xfrm>
            <a:off x="3754440" y="306360"/>
            <a:ext cx="1620720" cy="1249560"/>
          </a:xfrm>
          <a:prstGeom prst="rect">
            <a:avLst/>
          </a:prstGeom>
          <a:ln w="0">
            <a:noFill/>
          </a:ln>
        </p:spPr>
      </p:pic>
      <p:sp>
        <p:nvSpPr>
          <p:cNvPr id="1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2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5"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7" name="Straight Connector 8" descr=""/>
          <p:cNvPicPr/>
          <p:nvPr/>
        </p:nvPicPr>
        <p:blipFill>
          <a:blip r:embed="rId2"/>
          <a:stretch/>
        </p:blipFill>
        <p:spPr>
          <a:xfrm>
            <a:off x="-128520" y="3328920"/>
            <a:ext cx="9394920" cy="109440"/>
          </a:xfrm>
          <a:prstGeom prst="rect">
            <a:avLst/>
          </a:prstGeom>
          <a:ln w="0">
            <a:noFill/>
          </a:ln>
        </p:spPr>
      </p:pic>
      <p:sp>
        <p:nvSpPr>
          <p:cNvPr id="168" name="Rectangle 1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1"/>
          <p:cNvSpPr>
            <a:spLocks noGrp="1"/>
          </p:cNvSpPr>
          <p:nvPr>
            <p:ph type="sldNum" idx="2"/>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DE93-7A6B-4C22-95CA-7970BFF92C85}"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250920" y="1916280"/>
            <a:ext cx="5473440" cy="31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nor Coordination Forum  meeting, 30 March 2017</a:t>
            </a:r>
            <a:endParaRPr b="1" lang="en-US" sz="28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Mid-Term Review of  IPA II Indicative Strategy Paper (ISP) for BiH 2014-2020</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pic>
        <p:nvPicPr>
          <p:cNvPr id="214" name="Picture 2" descr=""/>
          <p:cNvPicPr/>
          <p:nvPr/>
        </p:nvPicPr>
        <p:blipFill>
          <a:blip r:embed="rId1"/>
          <a:stretch/>
        </p:blipFill>
        <p:spPr>
          <a:xfrm>
            <a:off x="3780000" y="1484280"/>
            <a:ext cx="5256000" cy="5237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2000"/>
                                        <p:tgtEl>
                                          <p:spTgt spid="213"/>
                                        </p:tgtEl>
                                      </p:cBhvr>
                                    </p:animEffect>
                                  </p:childTnLst>
                                </p:cTn>
                              </p:par>
                              <p:par>
                                <p:cTn id="8" nodeType="withEffect" fill="hold" presetClass="entr" presetID="10">
                                  <p:stCondLst>
                                    <p:cond delay="0"/>
                                  </p:stCondLst>
                                  <p:childTnLst>
                                    <p:set>
                                      <p:cBhvr>
                                        <p:cTn id="9"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0" dur="500"/>
                                        <p:tgtEl>
                                          <p:spTgt spid="213">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3"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0"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2):</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ntegrated Border Management policy will be implemented through improved capacities and strengthened cross-border, inter-agency and international cooperation and coordination, as well as through improved risk analysis policy/process, data collection and data exchange syste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of fundamental human rights (e.g. freedom of expression, gender equality, the rights of persons with disabilities, of LGBTI persons, of minorities such as Roma, refugees, IDPs and returnees, and of childre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Ombudsperson’s office will be strengthened and better placed to perform its mandat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and professional standards of journalists will be strengthened and the technical capacities of media bodie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1"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3. Environment, climate action and energy:</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vironment, climate change and energy polices and legislation are further aligned with the EU acquis and Energy Community Treaty  and support the 2015 Paris Agreement on Climate Change on increasing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stitutional capacities of relevant ministries, regulators, and other actors in the environment and energy sectors is enhan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 well-function mechanism (Single Project Pipeline) for identifying priority investments is in plac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is prepared to join the EU Civil Protection Mechanism as a result of improved disaster risk management systems and emergency preparednes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4"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6"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4. Transport:</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ort policies and legislation further aligned with the EU legislation and best practice, including to support the 2015 Paris Agreement on Climate Change and to increase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ation of reforms of the transport, with a focus on the rail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vestments in transport infrastructure advanced in line with indicative extension of the TEN-T Comprehensive/Core Network to the Western Balkans development plan priorities and the connectivity agend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rogress made in implementation of the technical standards and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connectivity reform measure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business environment including access to finance and job creation through local SMEs and better planning capacities at local level;</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ompetitiveness of SMEs in strategic export oriented sectors (i.e. wood, agri-food, metal),thereby supporting BiH in implementation of its international obligations under the SAA and other agreements (CEFTA, WTO etc.);</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applies a coherent foreign trade policy that is in line with its international obligations (SAA, CEFTA, WT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Institutional capacities in the area of competition and state aid operational and the laws implemented and enfor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apacities for sustainable development of tourism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2"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2):</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ment of competitiveness of the BiH agriculture and related economic sectors (agri-food and fisheries) as well as of quality of life in rural areas, thereby ensuring a value added impact of the SAA implement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pproximation to the EU IPA Rural Development (IPA RD) funds via building up of an EU-compliant management and control system.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6. Education, employment and social policies</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Decreased unemployment, in particular among youth, women, long-term unemployed and people with disabilities, through institutional reform, active labour market measures and special measures to facilitate school to work transi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capacities of employment services and institution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education sector will be better adapted to the needs of the labour marke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Arial"/>
              </a:rPr>
              <a:t>Inclusive education will be introduced in schools enabling access of vulnerable and disadvantaged people to educ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sustainability of the social protection system will increase due to coordinated needs based approach, reformed financing of social services and harmonised support for vulnerable peopl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mplementation of the Roma action pla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7. Territorial cooperation and regional cooperation</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ed support through:</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Serbi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ilateral cross-border programme between Bosnia and Herzegovina, Croatia and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terreg Danube Programm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editerranean transnational programm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driatic-Ionian programme (new)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
          <p:cNvGraphicFramePr/>
          <p:nvPr/>
        </p:nvGraphicFramePr>
        <p:xfrm>
          <a:off x="539640" y="2438280"/>
          <a:ext cx="7920000" cy="2940120"/>
        </p:xfrm>
        <a:graphic>
          <a:graphicData uri="http://schemas.openxmlformats.org/drawingml/2006/table">
            <a:tbl>
              <a:tblPr/>
              <a:tblGrid>
                <a:gridCol w="4203720"/>
                <a:gridCol w="787320"/>
                <a:gridCol w="785880"/>
                <a:gridCol w="720720"/>
                <a:gridCol w="711360"/>
                <a:gridCol w="711000"/>
              </a:tblGrid>
              <a:tr h="537480">
                <a:tc>
                  <a:txBody>
                    <a:bodyPr lIns="68400" rIns="68400" tIns="0" bIns="0" anchor="ctr">
                      <a:noAutofit/>
                    </a:bodyPr>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 </a:t>
                      </a:r>
                      <a:endParaRPr b="1" lang="en-US" sz="1100" spc="-1" strike="noStrike">
                        <a:solidFill>
                          <a:srgbClr val="ffd624"/>
                        </a:solidFill>
                        <a:latin typeface="Verdana"/>
                      </a:endParaRPr>
                    </a:p>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osnia and Herzegovina  </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5</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7</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Arial Unicode MS"/>
                        </a:rPr>
                        <a:t>2018-20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66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a. Reforms in preparation for Union membership</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7.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1.9</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0.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rowSpan="8">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Arial Unicode MS"/>
                        </a:rPr>
                        <a:t>?</a:t>
                      </a:r>
                      <a:endParaRPr b="1" lang="en-US" sz="36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Democracy and governance</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9.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Rule of law and fundamental right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7.3</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 Socio-economic and Regional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17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ompetitiveness and innovation</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7708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 Employment, social policies, education, research and innovation, promotion of gender equality, and human resources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Education, employment and social policie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19240">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OTAL</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2.60</a:t>
                      </a:r>
                      <a:r>
                        <a:rPr b="0" lang="en-GB" sz="1100" spc="-1" strike="noStrike" baseline="-25000">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r>
                        <a:rPr b="0" lang="en-GB" sz="1100" spc="-1" strike="noStrike" baseline="-25000">
                          <a:solidFill>
                            <a:srgbClr val="000000"/>
                          </a:solidFill>
                          <a:latin typeface="Verdana"/>
                        </a:rPr>
                        <a:t>[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0.3</a:t>
                      </a:r>
                      <a:r>
                        <a:rPr b="0" lang="en-GB" sz="1100" spc="-1" strike="noStrike" baseline="-25000">
                          <a:solidFill>
                            <a:srgbClr val="000000"/>
                          </a:solidFill>
                          <a:latin typeface="Verdana"/>
                        </a:rPr>
                        <a:t>[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61" name="Rectangle 1"/>
          <p:cNvSpPr/>
          <p:nvPr/>
        </p:nvSpPr>
        <p:spPr>
          <a:xfrm>
            <a:off x="6174000" y="1909800"/>
            <a:ext cx="18072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600"/>
            </a:br>
            <a:endParaRPr b="1" lang="en-US" sz="7600" spc="-1" strike="noStrike">
              <a:solidFill>
                <a:srgbClr val="ffd624"/>
              </a:solidFill>
              <a:latin typeface="Verdana"/>
            </a:endParaRPr>
          </a:p>
        </p:txBody>
      </p:sp>
      <p:sp>
        <p:nvSpPr>
          <p:cNvPr id="262" name="Rectangle 3"/>
          <p:cNvSpPr/>
          <p:nvPr/>
        </p:nvSpPr>
        <p:spPr>
          <a:xfrm>
            <a:off x="583920" y="5751720"/>
            <a:ext cx="7912080" cy="85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1" action="ppaction://hlinksldjump"/>
              </a:rPr>
              <a:t>[1]</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41 million EUR was allocated to BiH in 2014 under Special Measures for flood recovery and flood risk management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2" action="ppaction://hlinksldjump"/>
              </a:rPr>
              <a:t>[2]</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Each year an additional allocation to the Civil Society Facility under the multi-country envelope was earmerked for Bosnia and Heregovina,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respectively 2.1 MEUR in 2014, 2.5 MEUR in 2015, 3 MEUR in 2016 and 4.5 MEUR in 2017.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3" action="ppaction://hlinksldjump"/>
              </a:rPr>
              <a:t>[3]</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10 MEUR in 2017 were allocated for Bosnia and Herzegovina to the Regional Housing Programme implemented under</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the multi-country programme. </a:t>
            </a:r>
            <a:endParaRPr b="1" lang="en-US" sz="1000" spc="-1" strike="noStrike">
              <a:solidFill>
                <a:srgbClr val="ffd624"/>
              </a:solidFill>
              <a:latin typeface="Verdana"/>
            </a:endParaRPr>
          </a:p>
        </p:txBody>
      </p:sp>
      <p:sp>
        <p:nvSpPr>
          <p:cNvPr id="26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99"/>
                </a:solidFill>
                <a:latin typeface="Verdana"/>
                <a:ea typeface="Arial"/>
              </a:rPr>
              <a:t>Current state of play of financial allocations per IPA II  sectors for 2014 - 2017 in €mil  </a:t>
            </a:r>
            <a:endParaRPr b="1" lang="en-US" sz="2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Rectangle 2"/>
          <p:cNvSpPr/>
          <p:nvPr/>
        </p:nvSpPr>
        <p:spPr>
          <a:xfrm>
            <a:off x="393840" y="1608120"/>
            <a:ext cx="8210520" cy="957240"/>
          </a:xfrm>
          <a:prstGeom prst="rect">
            <a:avLst/>
          </a:prstGeom>
          <a:noFill/>
          <a:ln w="0">
            <a:noFill/>
          </a:ln>
        </p:spPr>
        <p:style>
          <a:lnRef idx="0"/>
          <a:fillRef idx="0"/>
          <a:effectRef idx="0"/>
          <a:fontRef idx="minor"/>
        </p:style>
        <p:txBody>
          <a:bodyPr lIns="90000" rIns="90000" tIns="46800" bIns="46800" anchor="t">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91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tarting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Current</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17</a:t>
            </a:r>
            <a:endParaRPr b="1" lang="en-US" sz="2400" spc="-1" strike="noStrike">
              <a:solidFill>
                <a:srgbClr val="ffd624"/>
              </a:solidFill>
              <a:latin typeface="Verdana"/>
            </a:endParaRPr>
          </a:p>
          <a:p>
            <a:pPr lvl="1" marL="9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compasses only 4 out of 9 sectors:</a:t>
            </a:r>
            <a:endParaRPr b="1" lang="en-US" sz="24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1.Democracy and governance</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2.Rule of Law and fundamental right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3.Competitiveness and innovation: local development </a:t>
            </a: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strategie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4. Education, employment and social policies </a:t>
            </a:r>
            <a:endParaRPr b="1" lang="en-US" sz="2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1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7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Future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Revised</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20</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Provides opportunity to include more than 4 currently supported sectors, such as:</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Transpor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griculture and rural development </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vironmen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ergy.. </a:t>
            </a:r>
            <a:endParaRPr b="1" lang="en-US" sz="2400" spc="-1" strike="noStrike">
              <a:solidFill>
                <a:srgbClr val="ffd624"/>
              </a:solidFill>
              <a:latin typeface="Verdana"/>
            </a:endParaRPr>
          </a:p>
          <a:p>
            <a:pPr lvl="1" marL="7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a:rPr>
              <a:t>	</a:t>
            </a:r>
            <a:r>
              <a:rPr b="0" lang="en-GB" sz="2800" spc="-1" strike="noStrike">
                <a:solidFill>
                  <a:srgbClr val="ffffff"/>
                </a:solidFill>
                <a:latin typeface="Verdana"/>
                <a:ea typeface="Arial"/>
              </a:rPr>
              <a:t>---T</a:t>
            </a:r>
            <a:endParaRPr b="1" lang="en-US" sz="2800" spc="-1" strike="noStrike">
              <a:solidFill>
                <a:srgbClr val="ffd624"/>
              </a:solidFill>
              <a:latin typeface="Verdana"/>
            </a:endParaRPr>
          </a:p>
        </p:txBody>
      </p:sp>
      <p:sp>
        <p:nvSpPr>
          <p:cNvPr id="22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2" name="Rectangle 2"/>
          <p:cNvSpPr/>
          <p:nvPr/>
        </p:nvSpPr>
        <p:spPr>
          <a:xfrm>
            <a:off x="393840" y="1341360"/>
            <a:ext cx="8292960" cy="99540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1)</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Guidelines on the Mid-term Review (MtR) prepared in </a:t>
            </a:r>
            <a:r>
              <a:rPr b="0" lang="en-GB" sz="2400" spc="-1" strike="noStrike" u="sng">
                <a:solidFill>
                  <a:srgbClr val="000000"/>
                </a:solidFill>
                <a:uFillTx/>
                <a:latin typeface="Verdana"/>
                <a:ea typeface="Arial"/>
              </a:rPr>
              <a:t>mid-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irst round of consultation on MtR of ISP with BiH beneficiary institutions and Civil society organisations held in </a:t>
            </a:r>
            <a:r>
              <a:rPr b="0" lang="en-GB" sz="2400" spc="-1" strike="noStrike" u="sng">
                <a:solidFill>
                  <a:srgbClr val="000000"/>
                </a:solidFill>
                <a:uFillTx/>
                <a:latin typeface="Verdana"/>
                <a:ea typeface="Arial"/>
              </a:rPr>
              <a:t>Sep 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econd round of consultation on MtR of ISP with BiH beneficiary institutions and Civil society organisations held in </a:t>
            </a:r>
            <a:r>
              <a:rPr b="0" lang="en-GB" sz="2400" spc="-1" strike="noStrike" u="sng">
                <a:solidFill>
                  <a:srgbClr val="000000"/>
                </a:solidFill>
                <a:uFillTx/>
                <a:latin typeface="Verdana"/>
                <a:ea typeface="Arial"/>
              </a:rPr>
              <a:t>Nov 2016 </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5" name="Rectangle 2"/>
          <p:cNvSpPr/>
          <p:nvPr/>
        </p:nvSpPr>
        <p:spPr>
          <a:xfrm>
            <a:off x="311040" y="1413000"/>
            <a:ext cx="8293320" cy="1092240"/>
          </a:xfrm>
          <a:prstGeom prst="rect">
            <a:avLst/>
          </a:prstGeom>
          <a:noFill/>
          <a:ln w="0">
            <a:noFill/>
          </a:ln>
        </p:spPr>
        <p:style>
          <a:lnRef idx="0"/>
          <a:fillRef idx="0"/>
          <a:effectRef idx="0"/>
          <a:fontRef idx="minor"/>
        </p:style>
        <p:txBody>
          <a:bodyPr lIns="90000" rIns="90000" tIns="46800" bIns="46800" anchor="t">
            <a:normAutofit fontScale="3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2)</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a:t>
            </a:r>
            <a:r>
              <a:rPr b="0" lang="en-GB" sz="2400" spc="-1" strike="noStrike" baseline="30000">
                <a:solidFill>
                  <a:srgbClr val="000000"/>
                </a:solidFill>
                <a:latin typeface="Verdana"/>
                <a:ea typeface="Arial"/>
              </a:rPr>
              <a:t>st</a:t>
            </a:r>
            <a:r>
              <a:rPr b="0" lang="en-GB" sz="2400" spc="-1" strike="noStrike">
                <a:solidFill>
                  <a:srgbClr val="000000"/>
                </a:solidFill>
                <a:latin typeface="Verdana"/>
                <a:ea typeface="Arial"/>
              </a:rPr>
              <a:t> version of revised ISP 2014-2020, based on inputs provided through 2 rounds of consultation, made available by EC/DG NEAR </a:t>
            </a:r>
            <a:r>
              <a:rPr b="0" lang="en-GB" sz="2400" spc="-1" strike="noStrike" u="sng">
                <a:solidFill>
                  <a:srgbClr val="000000"/>
                </a:solidFill>
                <a:uFillTx/>
                <a:latin typeface="Verdana"/>
                <a:ea typeface="Arial"/>
              </a:rPr>
              <a:t>end Nov 2016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G NEAR internal consultation and with Line DGs </a:t>
            </a:r>
            <a:r>
              <a:rPr b="0" lang="en-GB" sz="2400" spc="-1" strike="noStrike" u="sng">
                <a:solidFill>
                  <a:srgbClr val="000000"/>
                </a:solidFill>
                <a:uFillTx/>
                <a:latin typeface="Verdana"/>
                <a:ea typeface="Arial"/>
              </a:rPr>
              <a:t>end Nov 2016-mid-Jan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a:t>
            </a:r>
            <a:r>
              <a:rPr b="0" lang="en-GB" sz="2400" spc="-1" strike="noStrike" baseline="30000">
                <a:solidFill>
                  <a:srgbClr val="000000"/>
                </a:solidFill>
                <a:latin typeface="Verdana"/>
                <a:ea typeface="Arial"/>
              </a:rPr>
              <a:t>nd</a:t>
            </a:r>
            <a:r>
              <a:rPr b="0" lang="en-GB" sz="2400" spc="-1" strike="noStrike">
                <a:solidFill>
                  <a:srgbClr val="000000"/>
                </a:solidFill>
                <a:latin typeface="Verdana"/>
                <a:ea typeface="Arial"/>
              </a:rPr>
              <a:t> version of revised ISP 2014-2020 for strategic dialogue with DG NEAR Quality control unit – </a:t>
            </a:r>
            <a:r>
              <a:rPr b="0" lang="en-GB" sz="2400" spc="-1" strike="noStrike" u="sng">
                <a:solidFill>
                  <a:srgbClr val="000000"/>
                </a:solidFill>
                <a:uFillTx/>
                <a:latin typeface="Verdana"/>
                <a:ea typeface="Arial"/>
              </a:rPr>
              <a:t>March 2017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3)</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trategic Dialogue with EU Parliament – </a:t>
            </a:r>
            <a:r>
              <a:rPr b="0" lang="en-GB" sz="2400" spc="-1" strike="noStrike" u="sng">
                <a:solidFill>
                  <a:srgbClr val="000000"/>
                </a:solidFill>
                <a:uFillTx/>
                <a:latin typeface="Verdana"/>
                <a:ea typeface="Arial"/>
              </a:rPr>
              <a:t>June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nter-service consultation (ISC) of revised ISP launch – </a:t>
            </a:r>
            <a:r>
              <a:rPr b="0" lang="en-GB" sz="2400" spc="-1" strike="noStrike" u="sng">
                <a:solidFill>
                  <a:srgbClr val="000000"/>
                </a:solidFill>
                <a:uFillTx/>
                <a:latin typeface="Verdana"/>
                <a:ea typeface="Arial"/>
              </a:rPr>
              <a:t>July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PA II Committee meeting (opinion of Member States) – </a:t>
            </a:r>
            <a:r>
              <a:rPr b="0" lang="en-GB" sz="2400" spc="-1" strike="noStrike" u="sng">
                <a:solidFill>
                  <a:srgbClr val="000000"/>
                </a:solidFill>
                <a:uFillTx/>
                <a:latin typeface="Verdana"/>
                <a:ea typeface="Arial"/>
              </a:rPr>
              <a:t>October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doption process – </a:t>
            </a:r>
            <a:r>
              <a:rPr b="0" lang="en-GB" sz="2400" spc="-1" strike="noStrike" u="sng">
                <a:solidFill>
                  <a:srgbClr val="000000"/>
                </a:solidFill>
                <a:uFillTx/>
                <a:latin typeface="Verdana"/>
                <a:ea typeface="Arial"/>
              </a:rPr>
              <a:t>end year 2017</a:t>
            </a:r>
            <a:endParaRPr b="1" lang="en-US" sz="2400" spc="-1" strike="noStrike">
              <a:solidFill>
                <a:srgbClr val="ffd624"/>
              </a:solidFill>
              <a:latin typeface="Verdana"/>
            </a:endParaRPr>
          </a:p>
        </p:txBody>
      </p:sp>
      <p:sp>
        <p:nvSpPr>
          <p:cNvPr id="22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sectors covered</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ectors included</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emocracy and governance</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Rule of Law and fundamental right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vironment, climate action and energy</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ranspor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mpetitiveness, innovation, agriculture and rural developmen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ducation, employment and social policie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erritorial cooperation and regional cooperation  </a:t>
            </a:r>
            <a:endParaRPr b="1" lang="en-US" sz="2400" spc="-1" strike="noStrike">
              <a:solidFill>
                <a:srgbClr val="ffd624"/>
              </a:solidFill>
              <a:latin typeface="Verdana"/>
            </a:endParaRPr>
          </a:p>
        </p:txBody>
      </p:sp>
      <p:sp>
        <p:nvSpPr>
          <p:cNvPr id="232"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Democracy and governance:</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apacities of the public administration to ensure a more efficient, effective and accountable delivery of public services to citizens and businesses, including sound administrative procedures and e-government servic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untry-wide public financial management strategic framework, including coordination and  performance-based monitoring systems, is in place and implement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arliaments in BiH will have the necessary capacities to support the EU integration process of the country;</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ore reliable macro-economic, business, social and demographic, multi-domain statistics, statistics output, financial and agricultural statistics;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ooperation between civil society organisations and public institution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35"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7"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judicial efficiency, in particular through the elimination of the backlog of utility cas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independence of the judiciary and  improved accountability mechanis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competent domestic forensic institutions will be reinforced, notably for the process of identification of missing persons in relation to the remaining war crimes cases processing, but also for other types of crim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arency, accountability and proactive intelligence-led policing on organised crime, corruption and terrorism cases will be strengthened and the recovery of public fund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38"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5:10:38Z</dcterms:created>
  <dc:creator>HERRY Pascal (ELARG)</dc:creator>
  <dc:description/>
  <dc:language>en-US</dc:language>
  <cp:lastModifiedBy>Normela HODZIC-ZIJADIC</cp:lastModifiedBy>
  <cp:lastPrinted>2017-03-28T14:59:32Z</cp:lastPrinted>
  <dcterms:modified xsi:type="dcterms:W3CDTF">2017-03-29T08:47:01Z</dcterms:modified>
  <cp:revision>10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1ACF183991F324A8C5B7AC362704265</vt:lpwstr>
  </property>
  <property fmtid="{D5CDD505-2E9C-101B-9397-08002B2CF9AE}" pid="3" name="PublishingExpirationDate">
    <vt:lpwstr/>
  </property>
  <property fmtid="{D5CDD505-2E9C-101B-9397-08002B2CF9AE}" pid="4" name="PublishingStartDate">
    <vt:lpwstr/>
  </property>
</Properties>
</file>